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ED88F-615A-44AB-AF88-EFA6D3E733C8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52F2A-6541-48CB-B959-4D929124B2A5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mpre utilizar fonte da família Ar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731E1-678A-4C27-A9D6-CA38F505F17E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mpre utilizar fonte da família Ar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CC3B5-BF7E-49EF-85FC-B3C6C885D2EA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mpre utilizar fonte da família Ar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A71B7-2283-403E-B311-EB7926E6407C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mpre utilizar fonte da família Ar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FAA31-CDE2-4FA6-8FE1-D2B144FB4534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mpre utilizar fonte da família Ar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958EF-087A-4F82-BD62-A111A1511C1B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mpre utilizar fonte da família Ar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4273-3418-46B5-AE66-9D1954249CB8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mpre utilizar fonte da família Ar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6B9EA-32B1-45D6-8EC0-C58485C49B22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mpre utilizar fonte da família Ar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F9F10-74BC-48FD-833E-4251F6B797E2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mpre utilizar fonte da família Ar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0D242-9092-4086-9607-75DF9F1FA9F8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mpre utilizar fonte da família Ar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9E973-3FFA-4E55-A137-5D90371AB7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01A7E-8AD3-4F86-A5F1-B5275A66EF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18DB4-E245-4412-BAEC-2285F8D9C4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2F276-48CE-4514-AFF9-E1A1FBE403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E3E08-BEC6-49DA-9E47-C784A30824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18EEA-F6BF-4327-A30F-F34125E437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74504-CFA8-4276-8798-D2AD323C7C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47A4B-2DD3-40A1-9150-BD3C6CF848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C6BFD-A272-4805-A3CD-F4E3DDD90A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3DDFA-8A24-4417-B293-B165042828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B5B98-822A-42C9-A4BE-F353659E7A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06302-BE4B-467B-BEFF-E4AD2E8E6D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1" descr="proex"/>
          <p:cNvPicPr/>
          <p:nvPr/>
        </p:nvPicPr>
        <p:blipFill>
          <a:blip r:embed="rId2"/>
          <a:stretch/>
        </p:blipFill>
        <p:spPr>
          <a:xfrm>
            <a:off x="0" y="1033560"/>
            <a:ext cx="5580000" cy="52783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9" descr="topo"/>
          <p:cNvPicPr/>
          <p:nvPr/>
        </p:nvPicPr>
        <p:blipFill>
          <a:blip r:embed="rId3"/>
          <a:stretch/>
        </p:blipFill>
        <p:spPr>
          <a:xfrm>
            <a:off x="0" y="6318360"/>
            <a:ext cx="9144000" cy="53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>
          <a:xfrm>
            <a:off x="3924360" y="6337080"/>
            <a:ext cx="1270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7E914-8A6D-4867-8DF6-57D7494DE22B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6" descr="topo2"/>
          <p:cNvPicPr/>
          <p:nvPr/>
        </p:nvPicPr>
        <p:blipFill>
          <a:blip r:embed="rId4"/>
          <a:stretch/>
        </p:blipFill>
        <p:spPr>
          <a:xfrm>
            <a:off x="0" y="0"/>
            <a:ext cx="9144000" cy="107964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8" descr="LogoUfscar"/>
          <p:cNvPicPr/>
          <p:nvPr/>
        </p:nvPicPr>
        <p:blipFill>
          <a:blip r:embed="rId5"/>
          <a:stretch/>
        </p:blipFill>
        <p:spPr>
          <a:xfrm>
            <a:off x="179280" y="9360"/>
            <a:ext cx="1440000" cy="1049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" name="Picture 20" descr="Logo ProEx Novo"/>
          <p:cNvPicPr/>
          <p:nvPr/>
        </p:nvPicPr>
        <p:blipFill>
          <a:blip r:embed="rId6"/>
          <a:stretch/>
        </p:blipFill>
        <p:spPr>
          <a:xfrm>
            <a:off x="7020000" y="189000"/>
            <a:ext cx="1908000" cy="720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5"/>
          <p:cNvSpPr/>
          <p:nvPr/>
        </p:nvSpPr>
        <p:spPr>
          <a:xfrm>
            <a:off x="0" y="1484280"/>
            <a:ext cx="914400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179280" y="1413000"/>
            <a:ext cx="878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Rounded MT Bold"/>
              </a:rPr>
              <a:t>UNIVERSIDADE FEDERAL DE SÃO CAR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Rounded MT Bold"/>
              </a:rPr>
              <a:t>PRÓ-REITORIA DE EXTENS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0" y="4581360"/>
            <a:ext cx="87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PROPOSTA ORÇAMENTÁ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3" descr="topo"/>
          <p:cNvPicPr/>
          <p:nvPr/>
        </p:nvPicPr>
        <p:blipFill>
          <a:blip r:embed="rId1"/>
          <a:stretch/>
        </p:blipFill>
        <p:spPr>
          <a:xfrm>
            <a:off x="0" y="6318360"/>
            <a:ext cx="9144000" cy="539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topo2"/>
          <p:cNvPicPr/>
          <p:nvPr/>
        </p:nvPicPr>
        <p:blipFill>
          <a:blip r:embed="rId2"/>
          <a:stretch/>
        </p:blipFill>
        <p:spPr>
          <a:xfrm>
            <a:off x="0" y="0"/>
            <a:ext cx="9144000" cy="1079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" descr="LogoUfscar"/>
          <p:cNvPicPr/>
          <p:nvPr/>
        </p:nvPicPr>
        <p:blipFill>
          <a:blip r:embed="rId3"/>
          <a:stretch/>
        </p:blipFill>
        <p:spPr>
          <a:xfrm>
            <a:off x="179280" y="115920"/>
            <a:ext cx="2016360" cy="1468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" descr="Logo ProEx Novo2"/>
          <p:cNvPicPr/>
          <p:nvPr/>
        </p:nvPicPr>
        <p:blipFill>
          <a:blip r:embed="rId4"/>
          <a:stretch/>
        </p:blipFill>
        <p:spPr>
          <a:xfrm>
            <a:off x="1692360" y="2276640"/>
            <a:ext cx="5165640" cy="19634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6264360" y="630864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Rounded MT Bold"/>
              </a:rPr>
              <a:t>CoEx – 20/03/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tângulo 3"/>
          <p:cNvSpPr/>
          <p:nvPr/>
        </p:nvSpPr>
        <p:spPr>
          <a:xfrm>
            <a:off x="324000" y="2133720"/>
            <a:ext cx="820872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Fonte de Recurso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Orçamentário UFSCar (RP/RTN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PQV – Recursos Próprios</a:t>
            </a: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                    R$    43.000,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PR13 – Atividades de Extensão</a:t>
            </a: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                    R$  531.000,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PR11 – Atividades Culturais</a:t>
            </a: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                    R$  153.000,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PR 24 - Cursinho Valor                                                                                             R$  160.760,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Custeio (núcleos, secretarias, viagens, xerox, telefone  correio...)             R$ 135.064,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Calibri"/>
              </a:rPr>
              <a:t>Sub-total de </a:t>
            </a:r>
            <a:r>
              <a:rPr b="1" i="1" lang="pt-BR" sz="1400" spc="-1" strike="noStrike">
                <a:solidFill>
                  <a:srgbClr val="000000"/>
                </a:solidFill>
                <a:latin typeface="Calibri"/>
                <a:ea typeface="Arial"/>
              </a:rPr>
              <a:t>RP/RTN</a:t>
            </a:r>
            <a:r>
              <a:rPr b="0" i="1" lang="pt-BR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</a:t>
            </a: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R$   1022.824,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Antigo Fundo de Equalização (retribuição):                                                        * R$  535.000,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TOTAL -  R$ 1.557.824,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[* recursos gerados em 2013: retribuição à UFSCar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ORÇAMENTO PROEX 20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tângulo 3"/>
          <p:cNvSpPr/>
          <p:nvPr/>
        </p:nvSpPr>
        <p:spPr>
          <a:xfrm>
            <a:off x="179280" y="1628640"/>
            <a:ext cx="8856720" cy="54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cursos            Bol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grama Qualidade de Vida    R$    5.999,00      R$    24.000,00     R$      29.999,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tividades de Extensão             R$ 117.970,76     R$  352.320,00     R$    470.290,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tividades Culturais                   R$ 132,916,80     R$   61.440,00     R$     194.356,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ciepe 1º semestre/2013           R$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Calibri"/>
              </a:rPr>
              <a:t>40.739,02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$  58.560,00     R$        99.299,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ciepe 2º semestre/2013           R$         -              R$             -        R$       100.000,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ventos 1º semestre/2013         R$   50.299,90     R$              -        R$        50.229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ventos 2º semestre/2013         R$         -                               -          R$       50.000,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EX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multicamp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(Lagoa do Sino, Sorocaba e Araras)                   R$       10.000,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EX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jetos Especiais (Rondon)                                                R$       10.000,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EX Custei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viagens, secretaria, xerox, telefone, correios)       R$       90.000,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EX Núcleos de Extensão                                                             R$       28.000,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ursinho Pré vestibular   (recurso PROAD)                                        R$     160.760,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umento no valor das Bolsas de Extensão    (R$ 266,66)                  R$       62.560,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R$ 1.355.495,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71280" y="1052280"/>
            <a:ext cx="7653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posta de Distribuição dos Recurs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1544760" y="282600"/>
            <a:ext cx="554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ORÇAMENTO PROEX 201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talhamento do Custei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116000" y="1844640"/>
          <a:ext cx="6672240" cy="3888000"/>
        </p:xfrm>
        <a:graphic>
          <a:graphicData uri="http://schemas.openxmlformats.org/drawingml/2006/table">
            <a:tbl>
              <a:tblPr/>
              <a:tblGrid>
                <a:gridCol w="4492800"/>
                <a:gridCol w="2179440"/>
              </a:tblGrid>
              <a:tr h="268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ureza da Despes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bdf5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or R$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bdf53"/>
                    </a:solidFill>
                  </a:tcPr>
                </a:tc>
              </a:tr>
              <a:tr h="871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agens: Diárias e passagens: Fóruns de Pró Reitores, Encontros Nacionais  de extensão, AUGM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3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.0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3d1"/>
                    </a:solidFill>
                  </a:tcPr>
                </a:tc>
              </a:tr>
              <a:tr h="669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retaria (despesas com papelaria e almoxarifado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0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9e9"/>
                    </a:solidFill>
                  </a:tcPr>
                </a:tc>
              </a:tr>
              <a:tr h="469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ero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3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0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3d1"/>
                    </a:solidFill>
                  </a:tcPr>
                </a:tc>
              </a:tr>
              <a:tr h="669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efone (inclui Proex, Núcleo escola, demais Núcleos de Extensão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0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9e9"/>
                    </a:solidFill>
                  </a:tcPr>
                </a:tc>
              </a:tr>
              <a:tr h="669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reios (predominantemente documentação de projeto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3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3d1"/>
                    </a:solidFill>
                  </a:tcPr>
                </a:tc>
              </a:tr>
              <a:tr h="268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.0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9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0920" y="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Outros proje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centivo Disseminação e Difusão R$    10.000,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emória                                          R$    15.000,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rquestra                                        R$    50.000,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OTAL                                            R$ 75.000,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G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599840"/>
            <a:ext cx="83628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otal geral dos gastos –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ub total 1         R$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   1.355.495,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ub total 2         R$            75.000,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------------------------------------------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$ 1.430.495,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Orçamento de R$ 1.557.824,00  gerou  Saldo R$ 127.328,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A Estimativa de 2013 gerou um Saldo de bolsas e projetos da ordem de R$ 152.975,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ROJETO TEMÁTICOS DE EXTENSÃO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6840" y="1600200"/>
            <a:ext cx="821844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curso 2014 - </a:t>
            </a: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R$ 127.328,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aldo remanescentes de Editais R$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$</a:t>
            </a: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152.975,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R$ 280.303, 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5"/>
          <p:cNvSpPr/>
          <p:nvPr/>
        </p:nvSpPr>
        <p:spPr>
          <a:xfrm>
            <a:off x="0" y="1268280"/>
            <a:ext cx="914400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3" descr="topo"/>
          <p:cNvPicPr/>
          <p:nvPr/>
        </p:nvPicPr>
        <p:blipFill>
          <a:blip r:embed="rId1"/>
          <a:stretch/>
        </p:blipFill>
        <p:spPr>
          <a:xfrm>
            <a:off x="0" y="6318360"/>
            <a:ext cx="9144000" cy="539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topo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7" descr="Logo ProEx Novo2"/>
          <p:cNvPicPr/>
          <p:nvPr/>
        </p:nvPicPr>
        <p:blipFill>
          <a:blip r:embed="rId3"/>
          <a:stretch/>
        </p:blipFill>
        <p:spPr>
          <a:xfrm>
            <a:off x="282600" y="1341360"/>
            <a:ext cx="8332920" cy="31672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6264360" y="630864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Rounded MT Bold"/>
              </a:rPr>
              <a:t>CoEx – 20/03/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324000" y="1700280"/>
          <a:ext cx="8351640" cy="4184640"/>
        </p:xfrm>
        <a:graphic>
          <a:graphicData uri="http://schemas.openxmlformats.org/drawingml/2006/table">
            <a:tbl>
              <a:tblPr/>
              <a:tblGrid>
                <a:gridCol w="1158840"/>
                <a:gridCol w="1212840"/>
                <a:gridCol w="1212840"/>
                <a:gridCol w="1299960"/>
                <a:gridCol w="1114560"/>
                <a:gridCol w="1273320"/>
                <a:gridCol w="1079280"/>
              </a:tblGrid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0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rsos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.024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3.313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4.231,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3.991,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3.412,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9.558,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ls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3.68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8.88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9.44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2.6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0.8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5.6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8.704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2.193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3.671,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6.591,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4.212,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5.158,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197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tividades de Extensão (R$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1197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tividades Culturais (R$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79280" y="1700280"/>
          <a:ext cx="8569440" cy="4552920"/>
        </p:xfrm>
        <a:graphic>
          <a:graphicData uri="http://schemas.openxmlformats.org/drawingml/2006/table">
            <a:tbl>
              <a:tblPr/>
              <a:tblGrid>
                <a:gridCol w="1268640"/>
                <a:gridCol w="1265040"/>
                <a:gridCol w="1265400"/>
                <a:gridCol w="1306440"/>
                <a:gridCol w="1192320"/>
                <a:gridCol w="1136520"/>
                <a:gridCol w="1135080"/>
              </a:tblGrid>
              <a:tr h="833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6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rsos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4.6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3.172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.78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8.4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7.49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6.2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9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ls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2.4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4.64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.68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.4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.0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.0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3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7.0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7.812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0.46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1.8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5.49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6.2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571680" y="1916280"/>
          <a:ext cx="8064360" cy="4086000"/>
        </p:xfrm>
        <a:graphic>
          <a:graphicData uri="http://schemas.openxmlformats.org/drawingml/2006/table">
            <a:tbl>
              <a:tblPr/>
              <a:tblGrid>
                <a:gridCol w="1079280"/>
                <a:gridCol w="1054080"/>
                <a:gridCol w="1251000"/>
                <a:gridCol w="1150920"/>
                <a:gridCol w="1101600"/>
                <a:gridCol w="1212840"/>
                <a:gridCol w="1214640"/>
              </a:tblGrid>
              <a:tr h="91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7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rs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65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946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.976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155,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0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585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0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ls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08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.56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.84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2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0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4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.73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.506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.816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.355,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0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985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Rectangle 2"/>
          <p:cNvSpPr/>
          <p:nvPr/>
        </p:nvSpPr>
        <p:spPr>
          <a:xfrm>
            <a:off x="539640" y="1125360"/>
            <a:ext cx="77724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CIEPE – 1</a:t>
            </a:r>
            <a:r>
              <a:rPr b="1" lang="pt-BR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Semestre (R$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68360" y="2205000"/>
          <a:ext cx="8351640" cy="4032360"/>
        </p:xfrm>
        <a:graphic>
          <a:graphicData uri="http://schemas.openxmlformats.org/drawingml/2006/table">
            <a:tbl>
              <a:tblPr/>
              <a:tblGrid>
                <a:gridCol w="1224000"/>
                <a:gridCol w="1243080"/>
                <a:gridCol w="1112760"/>
                <a:gridCol w="1116000"/>
                <a:gridCol w="1254240"/>
                <a:gridCol w="1155600"/>
                <a:gridCol w="1245960"/>
              </a:tblGrid>
              <a:tr h="763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7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rs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.827,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.42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.415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178,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0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6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7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ls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.64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0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.76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4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0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4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.467,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.42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.175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.578,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0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0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CIEPE – 2</a:t>
            </a:r>
            <a:r>
              <a:rPr b="1" lang="pt-BR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Semestre (R$) 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574560" y="1628640"/>
          <a:ext cx="8101080" cy="4488120"/>
        </p:xfrm>
        <a:graphic>
          <a:graphicData uri="http://schemas.openxmlformats.org/drawingml/2006/table">
            <a:tbl>
              <a:tblPr/>
              <a:tblGrid>
                <a:gridCol w="1143000"/>
                <a:gridCol w="1198800"/>
                <a:gridCol w="1198440"/>
                <a:gridCol w="1200240"/>
                <a:gridCol w="1160280"/>
                <a:gridCol w="1121040"/>
                <a:gridCol w="1079280"/>
              </a:tblGrid>
              <a:tr h="1063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Recur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.0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3.885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9.929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6.056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.8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.2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0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Bols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2.0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0.8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5.36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9.6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7.2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5.6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5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4.0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4.685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35.289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35.656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0.0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7.8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grama Qualidade de Vida (R$) 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250920" y="2133720"/>
          <a:ext cx="8569080" cy="4319640"/>
        </p:xfrm>
        <a:graphic>
          <a:graphicData uri="http://schemas.openxmlformats.org/drawingml/2006/table">
            <a:tbl>
              <a:tblPr/>
              <a:tblGrid>
                <a:gridCol w="2070000"/>
                <a:gridCol w="1612800"/>
                <a:gridCol w="1613160"/>
                <a:gridCol w="1695240"/>
                <a:gridCol w="157788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9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Eventos 1º semestr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34.88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44.65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37.7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 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6.712,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Eventos 2º semest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35.329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30.0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5.788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9.133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70.209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64.65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63.488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45.846,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ventos Acadêmicos (R$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Gráfico 2008 até 20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C:\Users\AT6\Desktop\GRAFICO.JPG"/>
          <p:cNvPicPr/>
          <p:nvPr/>
        </p:nvPicPr>
        <p:blipFill>
          <a:blip r:embed="rId2"/>
          <a:stretch/>
        </p:blipFill>
        <p:spPr>
          <a:xfrm>
            <a:off x="142920" y="1268280"/>
            <a:ext cx="860580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87280" y="475920"/>
            <a:ext cx="633744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ISTRIBUIÇÃO DE RECURSOS 20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42480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lbertus Medium"/>
              </a:rPr>
              <a:t>R$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Calibri"/>
              </a:rPr>
              <a:t>862.064,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lbertus Medium"/>
              </a:rPr>
              <a:t>para programas de extensão (RP/RT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lbertus Medium"/>
              </a:rPr>
              <a:t>R$ 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Calibri"/>
              </a:rPr>
              <a:t>535.000,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lbertus Medium"/>
              </a:rPr>
              <a:t> </a:t>
            </a:r>
            <a:r>
              <a:rPr b="0" lang="pt-BR" sz="2400" spc="-1" strike="noStrike">
                <a:solidFill>
                  <a:srgbClr val="ff0000"/>
                </a:solidFill>
                <a:latin typeface="Albertus Medium"/>
              </a:rPr>
              <a:t>Retribuição / Antigo Fundo de Equaliz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500720" y="2205000"/>
          <a:ext cx="4105080" cy="2938680"/>
        </p:xfrm>
        <a:graphic>
          <a:graphicData uri="http://schemas.openxmlformats.org/drawingml/2006/table">
            <a:tbl>
              <a:tblPr/>
              <a:tblGrid>
                <a:gridCol w="447480"/>
                <a:gridCol w="3657600"/>
              </a:tblGrid>
              <a:tr h="979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Spranq eco sans"/>
                        </a:rPr>
                        <a:t>PR13 - Programa de Apoio a Atividades de Extens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9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Spranq eco sans"/>
                        </a:rPr>
                        <a:t>PR 11 - Programa de Apoio a Atividades Cultura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9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Spranq eco sans"/>
                        </a:rPr>
                        <a:t>PQV - Programa Qualidade de V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03:36:38Z</dcterms:created>
  <dc:creator>Zorzo</dc:creator>
  <dc:description/>
  <dc:language>en-US</dc:language>
  <cp:lastModifiedBy>User</cp:lastModifiedBy>
  <cp:lastPrinted>2013-03-20T19:16:37Z</cp:lastPrinted>
  <dcterms:modified xsi:type="dcterms:W3CDTF">2014-03-31T13:07:58Z</dcterms:modified>
  <cp:revision>68</cp:revision>
  <dc:subject/>
  <dc:title>Slide 1</dc:title>
</cp:coreProperties>
</file>