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F784-143F-4976-A6CC-F923389F3E6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F90B-45F2-44E7-9EBE-66D50E68A30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B54F-5766-4CAE-A80A-567322FEA96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B802-35CC-4661-8C85-2C2C341154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EEA4-8091-4D0C-BF7E-D0B554447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7A08-87EE-4621-AA38-DFE56CB15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AA67-6CF8-4479-88FB-246628B87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AD92-4444-4148-BDD8-53DDB7CB7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2333-877D-4871-8945-7CC6634AE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1C1D-CA38-42FD-A840-9FDA7FDBA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BC2C-56C7-40AA-A52D-7F3E5FB90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5028-7796-4905-81DC-B1897DD0A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8978-29DD-4E26-95E6-5A5542E38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362A-2780-432F-A75E-C71E838C5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CB55-CE51-4E34-9E8F-F1B473B20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E5CC-CA20-4C98-82DB-DB91902CF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roex"/>
          <p:cNvPicPr/>
          <p:nvPr/>
        </p:nvPicPr>
        <p:blipFill>
          <a:blip r:embed="rId2"/>
          <a:stretch/>
        </p:blipFill>
        <p:spPr>
          <a:xfrm>
            <a:off x="0" y="1033560"/>
            <a:ext cx="5580000" cy="5278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topo"/>
          <p:cNvPicPr/>
          <p:nvPr/>
        </p:nvPicPr>
        <p:blipFill>
          <a:blip r:embed="rId3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924360" y="6337080"/>
            <a:ext cx="127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5280-436D-42F3-B86E-132C91B454E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topo2"/>
          <p:cNvPicPr/>
          <p:nvPr/>
        </p:nvPicPr>
        <p:blipFill>
          <a:blip r:embed="rId4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LogoUfscar"/>
          <p:cNvPicPr/>
          <p:nvPr/>
        </p:nvPicPr>
        <p:blipFill>
          <a:blip r:embed="rId5"/>
          <a:stretch/>
        </p:blipFill>
        <p:spPr>
          <a:xfrm>
            <a:off x="179280" y="9360"/>
            <a:ext cx="1440000" cy="10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" name="Picture 20" descr="Logo ProEx Novo"/>
          <p:cNvPicPr/>
          <p:nvPr/>
        </p:nvPicPr>
        <p:blipFill>
          <a:blip r:embed="rId6"/>
          <a:stretch/>
        </p:blipFill>
        <p:spPr>
          <a:xfrm>
            <a:off x="7020000" y="189000"/>
            <a:ext cx="190800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141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UNIVERSIDADE FEDERAL DE SÃO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PRÓ-REITORIA DE EX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4581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restação de Co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LogoUfscar"/>
          <p:cNvPicPr/>
          <p:nvPr/>
        </p:nvPicPr>
        <p:blipFill>
          <a:blip r:embed="rId3"/>
          <a:stretch/>
        </p:blipFill>
        <p:spPr>
          <a:xfrm>
            <a:off x="179280" y="115920"/>
            <a:ext cx="2016360" cy="14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 ProEx Novo2"/>
          <p:cNvPicPr/>
          <p:nvPr/>
        </p:nvPicPr>
        <p:blipFill>
          <a:blip r:embed="rId4"/>
          <a:stretch/>
        </p:blipFill>
        <p:spPr>
          <a:xfrm>
            <a:off x="2124000" y="2276640"/>
            <a:ext cx="4734000" cy="180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3"/>
          <p:cNvSpPr/>
          <p:nvPr/>
        </p:nvSpPr>
        <p:spPr>
          <a:xfrm>
            <a:off x="395280" y="2133720"/>
            <a:ext cx="763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nte de Recur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o UFS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QV   – Recursos Própri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40.32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13  – Atividades de Extens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517.44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11  – Atividades Culturai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152.320,00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b-total de Recursos Própri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R$  710.08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do de Equalização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512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$ 1.222.08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* recursos gerados em 2012 pelo Fundo de Equalizaçã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ÇAMENTO PROEX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RÇAMENTO PROEX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79320" y="3060720"/>
            <a:ext cx="778536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47"/>
          <p:cNvSpPr/>
          <p:nvPr/>
        </p:nvSpPr>
        <p:spPr>
          <a:xfrm>
            <a:off x="2068560" y="404640"/>
            <a:ext cx="37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COM RECURSOS 201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39"/>
          <p:cNvSpPr/>
          <p:nvPr/>
        </p:nvSpPr>
        <p:spPr>
          <a:xfrm>
            <a:off x="564552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268280"/>
          <a:ext cx="8425080" cy="4238640"/>
        </p:xfrm>
        <a:graphic>
          <a:graphicData uri="http://schemas.openxmlformats.org/drawingml/2006/table">
            <a:tbl>
              <a:tblPr/>
              <a:tblGrid>
                <a:gridCol w="2808360"/>
                <a:gridCol w="1440000"/>
                <a:gridCol w="1512720"/>
                <a:gridCol w="1079640"/>
                <a:gridCol w="1584360"/>
              </a:tblGrid>
              <a:tr h="87804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ATIV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 (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(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(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ÇÃO GASTO/  REC. DISTRIB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.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.65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942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02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.380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644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1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5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23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26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2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27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19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07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7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1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8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563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16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2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32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65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63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QV_ Cultural temático/  (2. semest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79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20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76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042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22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 MULTICAM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5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7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5.076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.321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.754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99"/>
          <p:cNvSpPr/>
          <p:nvPr/>
        </p:nvSpPr>
        <p:spPr>
          <a:xfrm>
            <a:off x="3362760" y="476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COM BOLSAS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0"/>
          <p:cNvSpPr/>
          <p:nvPr/>
        </p:nvSpPr>
        <p:spPr>
          <a:xfrm>
            <a:off x="571824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1268280"/>
          <a:ext cx="8713800" cy="4761000"/>
        </p:xfrm>
        <a:graphic>
          <a:graphicData uri="http://schemas.openxmlformats.org/drawingml/2006/table">
            <a:tbl>
              <a:tblPr/>
              <a:tblGrid>
                <a:gridCol w="2737080"/>
                <a:gridCol w="1655640"/>
                <a:gridCol w="1584360"/>
                <a:gridCol w="1224000"/>
                <a:gridCol w="1512720"/>
              </a:tblGrid>
              <a:tr h="11001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ATIV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ÇÃO GASTO/ RECURSOS DISTRIBUÍ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.3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3.6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.9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1º semest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0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2º semest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2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6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.9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34"/>
          <p:cNvSpPr/>
          <p:nvPr/>
        </p:nvSpPr>
        <p:spPr>
          <a:xfrm>
            <a:off x="557388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5"/>
          <p:cNvSpPr/>
          <p:nvPr/>
        </p:nvSpPr>
        <p:spPr>
          <a:xfrm>
            <a:off x="3351240" y="26028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TO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360" y="1557360"/>
          <a:ext cx="7991280" cy="4105080"/>
        </p:xfrm>
        <a:graphic>
          <a:graphicData uri="http://schemas.openxmlformats.org/drawingml/2006/table">
            <a:tbl>
              <a:tblPr/>
              <a:tblGrid>
                <a:gridCol w="2230200"/>
                <a:gridCol w="2089080"/>
                <a:gridCol w="1872000"/>
                <a:gridCol w="1800000"/>
              </a:tblGrid>
              <a:tr h="6588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DESP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5.0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.321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.754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.9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84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27.8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,281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.594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8"/>
          <p:cNvSpPr/>
          <p:nvPr/>
        </p:nvSpPr>
        <p:spPr>
          <a:xfrm>
            <a:off x="578988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9"/>
          <p:cNvSpPr/>
          <p:nvPr/>
        </p:nvSpPr>
        <p:spPr>
          <a:xfrm>
            <a:off x="2050920" y="40464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POR FONTE DE REC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1341360"/>
          <a:ext cx="8280360" cy="4568760"/>
        </p:xfrm>
        <a:graphic>
          <a:graphicData uri="http://schemas.openxmlformats.org/drawingml/2006/table">
            <a:tbl>
              <a:tblPr/>
              <a:tblGrid>
                <a:gridCol w="2836800"/>
                <a:gridCol w="1994040"/>
                <a:gridCol w="1763640"/>
                <a:gridCol w="1685880"/>
              </a:tblGrid>
              <a:tr h="8319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FO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OCAÇÃ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DO DE EQUAL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.8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.12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 PRÓPRIOS/ RT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.08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.402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77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22.08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.281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.798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9"/>
          <p:cNvSpPr/>
          <p:nvPr/>
        </p:nvSpPr>
        <p:spPr>
          <a:xfrm>
            <a:off x="571824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cursos concedidos pela PRO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2008-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913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Logo ProEx Novo2"/>
          <p:cNvPicPr/>
          <p:nvPr/>
        </p:nvPicPr>
        <p:blipFill>
          <a:blip r:embed="rId3"/>
          <a:stretch/>
        </p:blipFill>
        <p:spPr>
          <a:xfrm>
            <a:off x="282600" y="1341360"/>
            <a:ext cx="8332920" cy="3167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3:36:38Z</dcterms:created>
  <dc:creator>Zorzo</dc:creator>
  <dc:description/>
  <dc:language>en-US</dc:language>
  <cp:lastModifiedBy>User</cp:lastModifiedBy>
  <cp:lastPrinted>2013-03-21T11:19:43Z</cp:lastPrinted>
  <dcterms:modified xsi:type="dcterms:W3CDTF">2014-03-31T13:08:18Z</dcterms:modified>
  <cp:revision>60</cp:revision>
  <dc:subject/>
  <dc:title>Slide 1</dc:title>
</cp:coreProperties>
</file>