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C800-6FE3-451E-9E44-085DCFB8A37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55B3-A301-4AF1-9853-9FB658255B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599B-8CEC-4089-B2B9-5A0BD1D56B3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391B-012D-4EAB-BFEB-3913A173091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mpre utilizar fonte da família A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58E1-F08E-417E-88DF-A3EF4EE64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1485-CBC5-4097-9D13-B84A2A0D2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19D3-C07A-4990-A178-4C3708C82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E97C-A252-4D0D-A649-436AC7E58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3B32-D6B0-4BA3-B318-F67228B73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4A61-0E08-4656-AD21-B02EE0A81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29A1-B450-4AA5-88C7-989F5D7E7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1578-1474-4D09-9554-A92A8D900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27FB-3F44-4316-94FF-BF9C6F5A4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CD4B-FDCE-4ECA-A7FD-D4CB32484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EF21-4487-467B-A2DC-4D493DD37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47CF-BFEE-465B-ADF6-4BA6A385B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proex"/>
          <p:cNvPicPr/>
          <p:nvPr/>
        </p:nvPicPr>
        <p:blipFill>
          <a:blip r:embed="rId2"/>
          <a:stretch/>
        </p:blipFill>
        <p:spPr>
          <a:xfrm>
            <a:off x="0" y="1033560"/>
            <a:ext cx="5580000" cy="5278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topo"/>
          <p:cNvPicPr/>
          <p:nvPr/>
        </p:nvPicPr>
        <p:blipFill>
          <a:blip r:embed="rId3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924360" y="6337080"/>
            <a:ext cx="1270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6EB7-00AE-4F82-824C-BCFD610C9B1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topo2"/>
          <p:cNvPicPr/>
          <p:nvPr/>
        </p:nvPicPr>
        <p:blipFill>
          <a:blip r:embed="rId4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LogoUfscar"/>
          <p:cNvPicPr/>
          <p:nvPr/>
        </p:nvPicPr>
        <p:blipFill>
          <a:blip r:embed="rId5"/>
          <a:stretch/>
        </p:blipFill>
        <p:spPr>
          <a:xfrm>
            <a:off x="179280" y="9360"/>
            <a:ext cx="1440000" cy="10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" name="Picture 20" descr="Logo ProEx Novo"/>
          <p:cNvPicPr/>
          <p:nvPr/>
        </p:nvPicPr>
        <p:blipFill>
          <a:blip r:embed="rId6"/>
          <a:stretch/>
        </p:blipFill>
        <p:spPr>
          <a:xfrm>
            <a:off x="7020000" y="189000"/>
            <a:ext cx="1908000" cy="72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79280" y="1413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UNIVERSIDADE FEDERAL DE SÃO CAR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PRÓ-REITORIA DE EX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4581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restação de Co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LogoUfscar"/>
          <p:cNvPicPr/>
          <p:nvPr/>
        </p:nvPicPr>
        <p:blipFill>
          <a:blip r:embed="rId3"/>
          <a:stretch/>
        </p:blipFill>
        <p:spPr>
          <a:xfrm>
            <a:off x="179280" y="115920"/>
            <a:ext cx="2016360" cy="14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 ProEx Novo2"/>
          <p:cNvPicPr/>
          <p:nvPr/>
        </p:nvPicPr>
        <p:blipFill>
          <a:blip r:embed="rId4"/>
          <a:stretch/>
        </p:blipFill>
        <p:spPr>
          <a:xfrm>
            <a:off x="2124000" y="2276640"/>
            <a:ext cx="4734000" cy="180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RSOS PARA ALO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6920" y="2205000"/>
          <a:ext cx="6985080" cy="3533760"/>
        </p:xfrm>
        <a:graphic>
          <a:graphicData uri="http://schemas.openxmlformats.org/drawingml/2006/table">
            <a:tbl>
              <a:tblPr/>
              <a:tblGrid>
                <a:gridCol w="5229360"/>
                <a:gridCol w="1755720"/>
              </a:tblGrid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E ALOCAÇÃO DOS 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es (R$)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EV: RECURSOS REMANESCENTES DO EDITAL DE EVENTOS  A SER UTILIZADO NA REVITALIZAÇÃO DOS ESPAÇOS DE EVENTOS DOS CA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350,7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E REVITALIZAÇÃO DOS NÚCLEOS DE EXTEN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89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O MEMORIA DA EXTENSA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640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51"/>
          <p:cNvSpPr/>
          <p:nvPr/>
        </p:nvSpPr>
        <p:spPr>
          <a:xfrm>
            <a:off x="1635120" y="1558800"/>
            <a:ext cx="39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LDO FUNDO DE EQU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2"/>
          <p:cNvSpPr/>
          <p:nvPr/>
        </p:nvSpPr>
        <p:spPr>
          <a:xfrm>
            <a:off x="5727600" y="1557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$ 111.640,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1268280"/>
            <a:ext cx="9144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topo"/>
          <p:cNvPicPr/>
          <p:nvPr/>
        </p:nvPicPr>
        <p:blipFill>
          <a:blip r:embed="rId1"/>
          <a:stretch/>
        </p:blipFill>
        <p:spPr>
          <a:xfrm>
            <a:off x="0" y="6318360"/>
            <a:ext cx="9144000" cy="5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topo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Logo ProEx Novo2"/>
          <p:cNvPicPr/>
          <p:nvPr/>
        </p:nvPicPr>
        <p:blipFill>
          <a:blip r:embed="rId3"/>
          <a:stretch/>
        </p:blipFill>
        <p:spPr>
          <a:xfrm>
            <a:off x="282600" y="1341360"/>
            <a:ext cx="8332920" cy="3167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264360" y="630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CoEx – 21/03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3"/>
          <p:cNvSpPr/>
          <p:nvPr/>
        </p:nvSpPr>
        <p:spPr>
          <a:xfrm>
            <a:off x="395280" y="2133720"/>
            <a:ext cx="76327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nte de Recur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o UFS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QV – Recursos Própri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 36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13 – Atividades de Extens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462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11 – Atividades Culturai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136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ub-total de Recursos Própri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634.000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o de Equalização: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  520.000,0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$ 1.154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[* recursos gerados em 2011 pelo Fundo de Equalizaçã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ÇAMENTO PROEX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1125360"/>
          <a:ext cx="8136000" cy="5080320"/>
        </p:xfrm>
        <a:graphic>
          <a:graphicData uri="http://schemas.openxmlformats.org/drawingml/2006/table">
            <a:tbl>
              <a:tblPr/>
              <a:tblGrid>
                <a:gridCol w="3390840"/>
                <a:gridCol w="1541520"/>
                <a:gridCol w="1544760"/>
                <a:gridCol w="1658880"/>
              </a:tblGrid>
              <a:tr h="319320">
                <a:tc gridSpan="4"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ÇAMENTO PROEX 2012 - APROVADO NA 36ª REUNIÃO DO CO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 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as 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8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85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313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.8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2.19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17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64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.8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 1º semestre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946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56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.50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 2º semestre/2011 (PREVISÃ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1º semestre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6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65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2º semestre/2011 (PREVISÃ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. 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154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                             1.154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47"/>
          <p:cNvSpPr/>
          <p:nvPr/>
        </p:nvSpPr>
        <p:spPr>
          <a:xfrm>
            <a:off x="2052000" y="40464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COM RECURS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39"/>
          <p:cNvSpPr/>
          <p:nvPr/>
        </p:nvSpPr>
        <p:spPr>
          <a:xfrm>
            <a:off x="564552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9640" y="1268280"/>
          <a:ext cx="8425080" cy="5019840"/>
        </p:xfrm>
        <a:graphic>
          <a:graphicData uri="http://schemas.openxmlformats.org/drawingml/2006/table">
            <a:tbl>
              <a:tblPr/>
              <a:tblGrid>
                <a:gridCol w="2808360"/>
                <a:gridCol w="1440000"/>
                <a:gridCol w="1512720"/>
                <a:gridCol w="1079640"/>
                <a:gridCol w="1584360"/>
              </a:tblGrid>
              <a:tr h="8794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ATIV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 (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(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(R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ÇÃO GASTO/  REC. DISTRIBUÍ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172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.247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924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,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313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.561,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51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9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1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946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24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21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,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2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42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807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12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9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8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58,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1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.6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72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77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,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TOS 2º semest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0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66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73,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erença previsão de recursos destinados aos editais ACIEPE e Eventos 2º sem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0" i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ado ao convênio CBS 21 e Rondon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ENADORIA DE C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15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382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- 3.228,4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,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.12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6.461,3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.658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,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99"/>
          <p:cNvSpPr/>
          <p:nvPr/>
        </p:nvSpPr>
        <p:spPr>
          <a:xfrm>
            <a:off x="3348720" y="47628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COM BOL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00"/>
          <p:cNvSpPr/>
          <p:nvPr/>
        </p:nvSpPr>
        <p:spPr>
          <a:xfrm>
            <a:off x="571824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9280" y="1268280"/>
          <a:ext cx="8713800" cy="4761000"/>
        </p:xfrm>
        <a:graphic>
          <a:graphicData uri="http://schemas.openxmlformats.org/drawingml/2006/table">
            <a:tbl>
              <a:tblPr/>
              <a:tblGrid>
                <a:gridCol w="2737080"/>
                <a:gridCol w="1655640"/>
                <a:gridCol w="1584360"/>
                <a:gridCol w="1224000"/>
                <a:gridCol w="1512720"/>
              </a:tblGrid>
              <a:tr h="109188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ATIV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R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ÇÃO GASTO/ RECURSOS DISTRIBUÍ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CULTUR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6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.2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6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IVIDADES DE EXTEN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.8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.2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.6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1º semest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56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76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IEPEs 2º semest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0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28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 QUALIDADE DE VI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4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.680,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6.000,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2.88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9.8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04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4"/>
          <p:cNvSpPr/>
          <p:nvPr/>
        </p:nvSpPr>
        <p:spPr>
          <a:xfrm>
            <a:off x="557388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5"/>
          <p:cNvSpPr/>
          <p:nvPr/>
        </p:nvSpPr>
        <p:spPr>
          <a:xfrm>
            <a:off x="3351240" y="26028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TO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1557360"/>
          <a:ext cx="7991280" cy="4105080"/>
        </p:xfrm>
        <a:graphic>
          <a:graphicData uri="http://schemas.openxmlformats.org/drawingml/2006/table">
            <a:tbl>
              <a:tblPr/>
              <a:tblGrid>
                <a:gridCol w="2230200"/>
                <a:gridCol w="2089080"/>
                <a:gridCol w="1872000"/>
                <a:gridCol w="1800000"/>
              </a:tblGrid>
              <a:tr h="6588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DE DESP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BUÍ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.12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.461,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658,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2.88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.84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04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54.0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6.301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.698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8"/>
          <p:cNvSpPr/>
          <p:nvPr/>
        </p:nvSpPr>
        <p:spPr>
          <a:xfrm>
            <a:off x="578988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9"/>
          <p:cNvSpPr/>
          <p:nvPr/>
        </p:nvSpPr>
        <p:spPr>
          <a:xfrm>
            <a:off x="2050920" y="40464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POR FONTE DE RECE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341360"/>
          <a:ext cx="8280360" cy="4568760"/>
        </p:xfrm>
        <a:graphic>
          <a:graphicData uri="http://schemas.openxmlformats.org/drawingml/2006/table">
            <a:tbl>
              <a:tblPr/>
              <a:tblGrid>
                <a:gridCol w="2836800"/>
                <a:gridCol w="1994040"/>
                <a:gridCol w="1763640"/>
                <a:gridCol w="1685880"/>
              </a:tblGrid>
              <a:tr h="8319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O FO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OCAÇÃ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OS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DO DE EQUAL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0.0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.359,3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.640,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SOS PRÓPRIOS/ RT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4.0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7.942,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057,9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54.000,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6.301,3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.698,6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052000" y="40464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GASTOS PROEX - 201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3"/>
          <p:cNvSpPr/>
          <p:nvPr/>
        </p:nvSpPr>
        <p:spPr>
          <a:xfrm>
            <a:off x="564552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26920" y="1125360"/>
          <a:ext cx="7561440" cy="5112000"/>
        </p:xfrm>
        <a:graphic>
          <a:graphicData uri="http://schemas.openxmlformats.org/drawingml/2006/table">
            <a:tbl>
              <a:tblPr/>
              <a:tblGrid>
                <a:gridCol w="5523120"/>
                <a:gridCol w="2038320"/>
              </a:tblGrid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ASTOS PROEX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                                                                                                                              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SORA DE CARTEIRA ESTUDANT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ÇÃO NO COPEX - ONIBUS/INSCRIÇÕES/PO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7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ERNOS ACIE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ÇÃO PROJETO RONDON (  Operação AÇAI e Operação 02 de Julh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09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ÇÃO CONVENIO CBS21 - BRASIL/CU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36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PESAS DE VIAG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00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CLEO NUMIECOS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ISTAS DE AVALIAÇÃO DE EXTENSÃO, NÚCLEO CIDADANIA E PARA COORDENADORIA DE PROJETOS ESPECI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RETARIA DE EXTEN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55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RIAIS E PASSAG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103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CLEOS DE EXTENSÃO/DIVE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93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ESSÃO RELATÓRIO DE PROGRA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9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AOS PROJETOS OBSERVATÓRIO DE  POLÍTICAS DE PERMANÊNCIA ESTUDANTIL E PRO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4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922,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9"/>
          <p:cNvSpPr/>
          <p:nvPr/>
        </p:nvSpPr>
        <p:spPr>
          <a:xfrm>
            <a:off x="5718240" y="638172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Fonte: Setor Administrativo Pro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Espaço Reservado para Conteúdo 4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3:36:38Z</dcterms:created>
  <dc:creator>Zorzo</dc:creator>
  <dc:description/>
  <dc:language>en-US</dc:language>
  <cp:lastModifiedBy>ProEx - Andréia</cp:lastModifiedBy>
  <cp:lastPrinted>2013-03-21T11:19:43Z</cp:lastPrinted>
  <dcterms:modified xsi:type="dcterms:W3CDTF">2013-03-21T13:11:13Z</dcterms:modified>
  <cp:revision>50</cp:revision>
  <dc:subject/>
  <dc:title>Slide 1</dc:title>
</cp:coreProperties>
</file>