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F69D-9DE1-4A93-ABB4-1F7D36CBA92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F126-FED6-4765-BF01-6B446F3DA0F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F904-79ED-4D4B-8441-4D69EF7FBC4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83DB-EB47-4591-9925-AC1EB50DD45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62EA-2D8F-44A9-BC95-8F36403327F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2797-BF0F-46BB-A355-27C1F5D3691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1DD1-2740-4B91-B358-852382BF86E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8B61-2C01-4351-A073-5ED7D4D8E38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A528-A08E-4511-906A-1E4653AC925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729F-A1A4-4979-99C3-C56E28ABEAA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E590-DEC1-4786-911F-3A8ECC7CB51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7CFF-8B1B-4F75-8AD4-A269EB793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F6856-86D7-4B8C-AB9D-54DC5937C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EE1B4-CB1E-4C08-8C09-52B08F32C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D884-CBAB-42CB-BA8C-2726763F74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6B1C-ABFC-4189-AF80-71FE3BFBC1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2EB7-2B6A-4433-8FCE-4A163A830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73BD-F84B-4390-8D22-418B7BD5E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C126-29A4-4F41-A16C-D8D90A4A3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53B4C-2E07-4FD0-827E-90A28D9BA2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6CDE-7E28-4EF0-9427-095C7B196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451C-BEC7-4D63-865B-3C2C2A941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4332-D69E-4076-B1FE-65A70D07B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proex"/>
          <p:cNvPicPr/>
          <p:nvPr/>
        </p:nvPicPr>
        <p:blipFill>
          <a:blip r:embed="rId2"/>
          <a:stretch/>
        </p:blipFill>
        <p:spPr>
          <a:xfrm>
            <a:off x="0" y="1033560"/>
            <a:ext cx="5580000" cy="5278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topo"/>
          <p:cNvPicPr/>
          <p:nvPr/>
        </p:nvPicPr>
        <p:blipFill>
          <a:blip r:embed="rId3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3924360" y="6337080"/>
            <a:ext cx="127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633A-0EC2-4AB2-B23F-BBD34349E9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topo2"/>
          <p:cNvPicPr/>
          <p:nvPr/>
        </p:nvPicPr>
        <p:blipFill>
          <a:blip r:embed="rId4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" descr="LogoUfscar"/>
          <p:cNvPicPr/>
          <p:nvPr/>
        </p:nvPicPr>
        <p:blipFill>
          <a:blip r:embed="rId5"/>
          <a:stretch/>
        </p:blipFill>
        <p:spPr>
          <a:xfrm>
            <a:off x="179280" y="9360"/>
            <a:ext cx="1440000" cy="1049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" name="Picture 20" descr="Logo ProEx Novo"/>
          <p:cNvPicPr/>
          <p:nvPr/>
        </p:nvPicPr>
        <p:blipFill>
          <a:blip r:embed="rId6"/>
          <a:stretch/>
        </p:blipFill>
        <p:spPr>
          <a:xfrm>
            <a:off x="7020000" y="189000"/>
            <a:ext cx="1908000" cy="7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5"/>
          <p:cNvSpPr/>
          <p:nvPr/>
        </p:nvSpPr>
        <p:spPr>
          <a:xfrm>
            <a:off x="0" y="1484280"/>
            <a:ext cx="91440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79280" y="141300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UNIVERSIDADE FEDERAL DE SÃO CAR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RÓ-REITORIA DE EXTEN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0" y="458136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ROPOSTA ORÇAMENT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topo"/>
          <p:cNvPicPr/>
          <p:nvPr/>
        </p:nvPicPr>
        <p:blipFill>
          <a:blip r:embed="rId1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topo2"/>
          <p:cNvPicPr/>
          <p:nvPr/>
        </p:nvPicPr>
        <p:blipFill>
          <a:blip r:embed="rId2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LogoUfscar"/>
          <p:cNvPicPr/>
          <p:nvPr/>
        </p:nvPicPr>
        <p:blipFill>
          <a:blip r:embed="rId3"/>
          <a:stretch/>
        </p:blipFill>
        <p:spPr>
          <a:xfrm>
            <a:off x="179280" y="115920"/>
            <a:ext cx="2016360" cy="146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Logo ProEx Novo2"/>
          <p:cNvPicPr/>
          <p:nvPr/>
        </p:nvPicPr>
        <p:blipFill>
          <a:blip r:embed="rId4"/>
          <a:stretch/>
        </p:blipFill>
        <p:spPr>
          <a:xfrm>
            <a:off x="1692360" y="2276640"/>
            <a:ext cx="5165640" cy="1963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6264360" y="6308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CoEx – 21/03/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tângulo 3"/>
          <p:cNvSpPr/>
          <p:nvPr/>
        </p:nvSpPr>
        <p:spPr>
          <a:xfrm>
            <a:off x="179280" y="1628640"/>
            <a:ext cx="8785440" cy="47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cursos            Bol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a Qualidade de Vida    R$    2.000,00     R$    12.000,00     R$      14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ividades de Extensão             R$ 125.024,50    R$  433.680,00     R$    558.704,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ividades Culturais                   R$ 144.600,00    R$  122.400,00     R$      67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iepe 1º semestre/2013           R$   21.650,00    R$   22.080,00      R$     43.73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iepe 2º semestre/2013           R$         -             R$             -           R$     6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ventos 1º semestre/2013         R$   34.880,00    R$           0,00       R$     34.88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ventos 2º semestre/2013         R$         -                               -          R$     3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dital Cultural Temático 2º S.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R$     6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QV 2º semestre/2013                                                                        R$     6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EX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ulticamp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Lagoa do Sino, Sorocaba e Araras)                   R$     1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R$     83.765,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             R$ 1.222.080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1052280"/>
            <a:ext cx="7653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ta de Distribuição dos Recurs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1544760" y="28260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ÇAMENTO PROEX 201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EX: R$ 83.765,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pesas de custeio: Gabinete/ Núcleos de extensão e Coordenadorias (R$ 40.765,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ndon e demais projetos esporádicos (R$ 4.000,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ornada científica (R$ 17.000,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ento Avaliaçã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ciepe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R$ 4.000,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entivo Disseminação e Difusão em diferentes míd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R$ 18.000,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268280"/>
            <a:ext cx="91440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3" descr="topo"/>
          <p:cNvPicPr/>
          <p:nvPr/>
        </p:nvPicPr>
        <p:blipFill>
          <a:blip r:embed="rId1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topo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Logo ProEx Novo2"/>
          <p:cNvPicPr/>
          <p:nvPr/>
        </p:nvPicPr>
        <p:blipFill>
          <a:blip r:embed="rId3"/>
          <a:stretch/>
        </p:blipFill>
        <p:spPr>
          <a:xfrm>
            <a:off x="282600" y="1341360"/>
            <a:ext cx="8332920" cy="3167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6264360" y="6308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CoEx – 21/03/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11280" y="1700280"/>
          <a:ext cx="7848360" cy="4521240"/>
        </p:xfrm>
        <a:graphic>
          <a:graphicData uri="http://schemas.openxmlformats.org/drawingml/2006/table">
            <a:tbl>
              <a:tblPr/>
              <a:tblGrid>
                <a:gridCol w="1030320"/>
                <a:gridCol w="1434960"/>
                <a:gridCol w="1538280"/>
                <a:gridCol w="1317600"/>
                <a:gridCol w="1230480"/>
                <a:gridCol w="1296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Recursos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33.313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24.231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23.991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53.412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39.558,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Bol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58.8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39.44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12.6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40.8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15.6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592.193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563.671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36.591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94.212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55.158,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197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ividades de Extensão (R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197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ividades Culturais (R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11280" y="1700280"/>
          <a:ext cx="8137440" cy="4552920"/>
        </p:xfrm>
        <a:graphic>
          <a:graphicData uri="http://schemas.openxmlformats.org/drawingml/2006/table">
            <a:tbl>
              <a:tblPr/>
              <a:tblGrid>
                <a:gridCol w="990360"/>
                <a:gridCol w="1498680"/>
                <a:gridCol w="1546200"/>
                <a:gridCol w="1413000"/>
                <a:gridCol w="1344600"/>
                <a:gridCol w="1344600"/>
              </a:tblGrid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Recursos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63.17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60.7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68.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17.49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16.2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Bol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34.6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79.6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73.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8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0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97.81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40.46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41.8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65.49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56.2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24000" y="1700280"/>
          <a:ext cx="7848360" cy="4502160"/>
        </p:xfrm>
        <a:graphic>
          <a:graphicData uri="http://schemas.openxmlformats.org/drawingml/2006/table">
            <a:tbl>
              <a:tblPr/>
              <a:tblGrid>
                <a:gridCol w="1139760"/>
                <a:gridCol w="1274760"/>
                <a:gridCol w="1314360"/>
                <a:gridCol w="1373040"/>
                <a:gridCol w="1373400"/>
                <a:gridCol w="1373040"/>
              </a:tblGrid>
              <a:tr h="91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Recur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4.94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7.976,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3.155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2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0.58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Bol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4.56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7.84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9.2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6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4.4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59.50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5.81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2.355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8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4.98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2"/>
          <p:cNvSpPr/>
          <p:nvPr/>
        </p:nvSpPr>
        <p:spPr>
          <a:xfrm>
            <a:off x="539640" y="1125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EPE – 1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mestre (R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39640" y="2205000"/>
          <a:ext cx="7993080" cy="3813120"/>
        </p:xfrm>
        <a:graphic>
          <a:graphicData uri="http://schemas.openxmlformats.org/drawingml/2006/table">
            <a:tbl>
              <a:tblPr/>
              <a:tblGrid>
                <a:gridCol w="1282680"/>
                <a:gridCol w="1333800"/>
                <a:gridCol w="1334880"/>
                <a:gridCol w="1501920"/>
                <a:gridCol w="1384200"/>
                <a:gridCol w="1155600"/>
              </a:tblGrid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Recur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6.42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.41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1.178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2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1.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Bol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4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9.76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2.4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6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4.4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50.42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50.17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3.578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8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5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EPE – 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mestre (R$)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74560" y="1628640"/>
          <a:ext cx="8101080" cy="4488120"/>
        </p:xfrm>
        <a:graphic>
          <a:graphicData uri="http://schemas.openxmlformats.org/drawingml/2006/table">
            <a:tbl>
              <a:tblPr/>
              <a:tblGrid>
                <a:gridCol w="1341720"/>
                <a:gridCol w="1406520"/>
                <a:gridCol w="1409400"/>
                <a:gridCol w="1360800"/>
                <a:gridCol w="1214280"/>
                <a:gridCol w="1368360"/>
              </a:tblGrid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Recur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88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9.92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6.05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8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2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Bol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0.8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5.36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9.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7.2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5.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4.68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5.28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5.65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0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7.8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a Qualidade de Vida (R$)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50920" y="2133720"/>
          <a:ext cx="8569080" cy="3693960"/>
        </p:xfrm>
        <a:graphic>
          <a:graphicData uri="http://schemas.openxmlformats.org/drawingml/2006/table">
            <a:tbl>
              <a:tblPr/>
              <a:tblGrid>
                <a:gridCol w="2549520"/>
                <a:gridCol w="1987560"/>
                <a:gridCol w="2089080"/>
                <a:gridCol w="19429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ventos 1º semes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4.65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7.7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6.712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ventos 2º semes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0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5.788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9.133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64.65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63.488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5.846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os Acadêmicos (R$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6337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IÇÃO DE RECURSOS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edium"/>
              </a:rPr>
              <a:t>R$ 710.080,00 para programas de extensão (RP/RT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edium"/>
              </a:rPr>
              <a:t>R$ 512.000,00 Fundo de Equ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00720" y="2205000"/>
          <a:ext cx="4105080" cy="2938680"/>
        </p:xfrm>
        <a:graphic>
          <a:graphicData uri="http://schemas.openxmlformats.org/drawingml/2006/table">
            <a:tbl>
              <a:tblPr/>
              <a:tblGrid>
                <a:gridCol w="447480"/>
                <a:gridCol w="3657600"/>
              </a:tblGrid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pranq eco sans"/>
                        </a:rPr>
                        <a:t>PR13 - Programa de Apoio a Atividades de Extens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pranq eco sans"/>
                        </a:rPr>
                        <a:t>PR 11 - Programa de Apoio a Atividades Cultur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pranq eco sans"/>
                        </a:rPr>
                        <a:t>PQV - Programa Qualidade de V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tângulo 3"/>
          <p:cNvSpPr/>
          <p:nvPr/>
        </p:nvSpPr>
        <p:spPr>
          <a:xfrm>
            <a:off x="395280" y="2133720"/>
            <a:ext cx="763272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nte de Recurs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çamentário UFSCar (RP/RT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QV – Recursos Própri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$    40.32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13 – Atividades de Extensã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$  517.44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11 – Atividades Cultura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$  152.320,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b-total d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P/RTN</a:t>
            </a:r>
            <a:r>
              <a:rPr b="0" i="1" lang="en-US" sz="18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$  710.08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o de Equalizaçã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*R$  512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$ 1.222.08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* recursos gerados em 2012 pelo Fundo de Equalização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ÇAMENTO PROEX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3:36:38Z</dcterms:created>
  <dc:creator>Zorzo</dc:creator>
  <dc:description/>
  <dc:language>en-US</dc:language>
  <cp:lastModifiedBy>User</cp:lastModifiedBy>
  <cp:lastPrinted>2013-03-20T19:16:37Z</cp:lastPrinted>
  <dcterms:modified xsi:type="dcterms:W3CDTF">2013-03-21T13:22:04Z</dcterms:modified>
  <cp:revision>47</cp:revision>
  <dc:subject/>
  <dc:title>Slide 1</dc:title>
</cp:coreProperties>
</file>